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6D09-976B-4D33-8E5B-14350B4024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274D-EAE5-45FF-9A17-6E0C1368A1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04D3-FFD5-47C6-80CB-32E07F12A1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BFBF-9635-43A5-A040-DBCF25EDC2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80E0-953D-4300-B9B1-67DF2B5449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73E-5CB7-4FB9-AB2C-1F3B7D97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7F57-1641-4946-BE9D-16201871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635-3FB1-4B48-85EB-C47F1A5C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3E05-5CB4-4540-9564-8A6EFB4E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98E9-5948-4F30-8C57-8A3EE5B1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C34F-B156-488D-9A1C-2DD94667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AFA9-B7AA-4966-A045-7DAEA30C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B37E-DDBA-4FB3-ACDB-89016EC1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5489-DB82-44A7-BB26-816A80CA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3B76-9BBD-4FE1-ABDD-3E756E8E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E4EF-0E2A-44F6-8D87-CDC907D9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82A-B063-422A-8887-990ACB69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609E-41F9-4244-A9DE-5D81435D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CCF2-A6CF-4F4B-A641-31EFF766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4D88-5C2A-4B52-B742-7569A1DA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8D09-5834-45A7-B0D0-8A05FAD6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F139-4795-4F73-88C9-DD8B8A2D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3A2-3671-4DAB-B982-7ADD0A4A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DC81-BB8D-4A81-9E45-1A62CE9D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2AB-50B6-4FC5-A518-54DBEA0E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C972-85AE-4C3D-857F-928590E4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24BB-D8A9-42E9-902A-B7C98810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709-D2F2-477A-B31F-F95B4DF4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FB3-BBF5-4866-AE42-E72F5BC2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8AC0-26E1-4DDD-91C3-E72A5347E1EC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C072-21A0-49EA-9A54-6C0AB6973CE2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3736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мидж – что это и с чем его едят?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47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ссийские инженеры – какие они?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ифференциация понятий «имидж» и «репутация»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Перцепция в межличностном общении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Структура имидж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0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ссур Леонид Владими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31-03-1878 г. - 19-05-1920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учёный-машиновед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здал рациональную классификацию плоских шарнирных механизмов. Разработал методику образования плоских механизмов любой сложности методом последовательного наслоения кинематических цепей, получивших название «групп Ассур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5825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ганов Василий Ив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12-1899 г. - 27-12-197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учёный-кораблестроитель, главный конструктор первого в мире атомного ледокола «Ленин» и его дальнейшего развития – атомного ледокола «Арктик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 первый в мире атомный ледоко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112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мов Николай Иль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4-09-1902 г. - 24-11-1973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вертолеты “Ка”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иколай Ильич Камов — советский авиаконструктор, создатель вертолётов «Ка», доктор технических наук (1962). Герой Социалистического Труда (1972). Лауреат Государственной премии СССР (1972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72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00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победимый Сергей Павл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3-09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ветский конструктор ракетного воо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Группой под его руководством создана первая в мире сверхзвуковая противотанковая управляемая ракета (ПТУР) «Штурм» и первый в мире двухканальный ПТРК «Хризантема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1722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лашников Михаил Тимофее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0-11-1919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Автомат Калашникова, 7,62-м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оме того был членом совета пис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Илюшин, Туполев, (известные авиастроители) – имена, известные на весь ми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9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такое культура?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1.Совокупность производственных, общественных и духовных достижений людей. История культуры. К. древних гре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2.Высокий уровень чего-н., высокое развитие, умение. К. производства. К. голоса (у певцов). Физическая к. (физ~).К. реч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3.Области человеческой деятельности, связанные с самовыражением человека, проявлением его субъективности (характера, компетентностей, навыков, умений и знаний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0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Lucida Sans Unicode"/>
              </a:rPr>
              <a:t>Соотношение понятий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«имидж» и «репутация»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МИДЖ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Имидж 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(от англ. Image) в переводе означает образ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английском языке слово происходит от латинского imagio, производного от imitari (имитировать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русском языке имидж воспринимается как образ чего-либо или кого-либо (целенаправленно сконструированный) и призванный оказать эмоционально-психологическое воздействие на целевую аудиторию в целях популяризации, рекламы и т.д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путац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– это общее сложившееся мнение о качествах, достоинствах и недостатках организации (профессионала) в деловой сфере, которое определяет отношение к ней внешней среды и может приносить сверхнормативную прибыл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Итак,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– это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мнение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инципиальные отлич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полностью определяется прошлым, а не настоящим и будущим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распространяется в основном самостоятельно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2373480"/>
          <a:ext cx="8497800" cy="30715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«Русских невозможно победить, мы убедились в этом за сотни лет. Но русским можно привить лживые ценности, и тогда они победят сами себ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074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(Отто фон Бисмар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первый канцл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Герм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 снова об имидже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Носителями имиджа могут быть люди, организации, товары, професс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Более глубокая концептуальная характеристика имиджа содержит ряд уточнений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1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результат типизац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2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лемент символического мира, который с необходимостью создается в процессе типиз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3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фактор коммуник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4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результат борьбы определений и оценок, вырабатываемых получателем информации, композиция в умах воспринимающих л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5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впечатление, создаваемое на некотором уровне абстра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В рамках репутационного подхода </a:t>
            </a:r>
            <a:r>
              <a:rPr b="1" lang="ru-RU" sz="3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 интерпретируется как вспомогательное средство – условие формирования и поддержания деловой репутац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Межличностной адаптации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даря правильно избранному имиджу можно быстро войти в конкретную социальную среду, привлечь к себе внимание, оперативно установить доброжелательные отнош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Высвечивания лучших личностно-деловых качеств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приятный имидж даёт возможность зрительно представить наиболее привлекательные качества человека, позволяя соприкасающимся с ним людям познавать именно эти черты, вызывающие симпатию или доброе располож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Затенения негативных личностных характеристик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редством макияжа, дизайна одежды, аксессуаров, причёски и т.д. можно отвлечь людей от тех недостатков, которыми обладает челове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рганизация внимания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лекательный имидж невольно притягивает к себе людей, он импонирует им, а потому они психологически легче располагаются к тому, что он говорит или демонстр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Преодоления возрастных рубежей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но владея технологией самопрезентации, что конкретно проявляется в удачном выборе моделей поведения и исполнении различных ролей, можно комфортно себя чувствовать в общении с людьми разного социального положения и профессионального статуса, не сковывая себя «комплексом» собственного возрас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Таким образом, имидж – это полиметрическое явление, функционал которого разнообразен. Главное его назначение – </a:t>
            </a: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достичь эффекта личного притяж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Что такое профессиональный имидж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важная составная часть персонального имидж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образ отдельного человека, формирующийся в определенное время с определенным уровнем полноты (от общего впечатления до сложной структуры представлений) в глазах реципиент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То есть это образ отдельного человека как работника, впечатление о его деловых  и профессиональных качествах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ирование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целенаправленная деятельность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мейкер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специалист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убъекты имиджирования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ципиенты или получатели – те, кто воспринимает имиджформирующую информацию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ндукторы, или отправители -  те, кто является источникм имиджформирующей информ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осители имиджа – те, относительно кого складывается имидж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Атрибуты, факторы и компоненты имиджа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неотъемлемое свойство чего-либо или кого-либо; </a:t>
            </a: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его неотъемлемые составляющ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Фактор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нечто, влияющее на имидж (образ личности формируется из восприятия одежды, голоса, речи ит.д.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Компонен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- некоторая характеристика носителя имиджа, которая воплощается в восприятии реципи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конце XIX – начале XX века российская система инженерного образования считалась одной из лучших в мир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оветском Союзе её традиции удалось адаптировать к плановой экономике и добиться больших успехов в освоении космоса, создании атомной и оборонной промышлен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ередине 80-х годов доля инженеров в общем объёме выпускаемых вузами специалистов составляла более 40 проц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елогия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наука о стратегии, тактике и технологии создания позитивного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функционально-технологическому признаку выделяют  разновидности имиджа (корпоратвиного и персонального)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желаемый и воспринимаем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социо-ситуативный и постоянн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бобщенный, функциональный (по выполняемым функциям) и контекстный (по контексту деятельности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сзаемый и неосязаемый (осязаемый создается на основе знакомства с тем, что можно увидеть, услышать, потрогать и т.д.; неосязаемый формируется как реакция на осязаемое воздействие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характеру оценки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ложи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трица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нейтральн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 группе персонального имиджа выделяют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амоимидж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нешний имидж (или просто имидж) лич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уктура персонального имидж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же такое «Я-концепция»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Я-концепция – это совокупность всех представлений индивида о себе, сопряжённая с его отношением к себе или к отдельным своим качествам, это называют самооценко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Р. Берн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Самооценка отражает степень развития у человека чувства самоуважения, ощущения собственной ценности и позитивного отношения ко всему тому, что входит в сферу его «Я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авайте разберёмс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з чего состоит «Я-концепция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происходит с личностью при работе над своей «Я-концепцией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 настроиться на достижение успеха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даёт индивиду положительная «Я-концепция»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Факторы положительной я-концепц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вёрдая убеждённость в том, что вы импонируете другим людям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веренность в способности к тому или иному виду деятельности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увство собственной значим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оставляющие «Я-концепции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ОГНИТИВ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ЦЕНОЧ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ВЕДЕНЧЕСК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модальности самоустановок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е Я – установки, связанные с тем, как индивид воспринимает свои актуальные способности, роли, свой актуальный статус, то есть его представления о том, каков он на самом дел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(социальное) Я – установки, связанные с представлениями индивида о том, как его видят друг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ое Я – установки, связанные с представлениями индивида о том, каким бы он хотел ста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Восприятие и понимание в процессе обще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ртов Андре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8-03-1693 г. - 16-04-1756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механик и изобретатель, "личный токарь" Петра I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Токарно-винторезный станок с механизированным суппортом и набором сменных зубчатых колё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5482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Восприят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формирование целостного образа на основе поведения и внешнего вида, а также понимание партнер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Пониман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во-первых, отражение в сознании партнеров по общению целей, мотивов, установок друг друга; во-вторых, принятие этих целей, позволяющее установить взаимоотношен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Межличностная перцепция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Личное восприятие – получение и обработка одним субъектом общения информации о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а точность восприятия влияет множество характеристик субъектов восприят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амовосприятие и обратная связ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Окно Джохар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987640" y="2637000"/>
            <a:ext cx="141912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27640" y="2637000"/>
            <a:ext cx="136836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п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987640" y="4076640"/>
            <a:ext cx="141912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427640" y="4076640"/>
            <a:ext cx="136836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Palatino Linotype"/>
              </a:rPr>
              <a:t>Неизвестная зона: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Дон Хуан сказал, что если лев не разорвет нас до того, как мы доберемся до вершины, то мы спасены. Он полез первый, показывая нам дорогу. Мы начали карабкаться в темноте. Не знаю, как, но я следовал за ним совершенно уверенными шагами. Когда мы были уже у вершины, я услышал особый крик животного. Он был похож немножко на мычание коровы, но длиннее и более груб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–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стрее, быстрее наверх! – взревел дон Хуан. И я в кромешной тьме рванулся к вершине и оставил его далеко позади. Когда он достиг плоской вершины утеса, я уже сидел, переводя дых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н повалился на землю. На секунду я подумал, что это от напряжения, которое оказалось слишком велико для него, но катался по земле от  хохота над моим быстрым броском в гор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осприятие и роль социального стереотип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как предметов, так и людей зависит не только от индивидуально-личностных, но и социокультурных факто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Термин социальное восприятие ввел Д.Брунер, проведя большое количество эксперименто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незнакомых людей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незнакомых людей происходит на основе стереотипиз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роцесс социальной стереотипизации – образ другого строится на основе тех или иных типовых схе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оциальный стереотип – устойчивое представление о каких-либо явлениях или людях, свойственное представителям той или иной социальной групп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Факторы, способствующие ошибкам восприятия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евосходс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ивлекательност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отношения к на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и понимания</a:t>
            </a: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накомых людей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 постоянном общении становится важным более глубокое и объективное понимание партнера – его актуального эмоционального состояния, намерений, отношения к на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сихологические механизмы восприятия при межличностном общени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дентификац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Эмпат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флекс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щая модель рефлекс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Д. Холмс показывает, что при общении двух субъектов наличествует не два, а шесть субъектов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         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А – А1 – А2;                 Б – Б1 – Б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2692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                               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1476360" y="43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35640" y="4365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носов Паве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06-1796 г. - 13-05-185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горный инженер, учёный-металлург, крупный организатор горнозаводской промышленности, исследователь природы Южного Урала, томский губернато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гадал секрет булатной стал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871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лександр Порфирьевич БОРОД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2.XI. 1833 - 27.II. 1887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Бородин Александр Порфирьевич - профессор химии и академик военно-медицинской академии, доктор медицины и композитор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59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Попов Александр Степ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4-03-1859 г. - 31-12-1905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физик и электротехник, профессор, изобретатель ради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радиоприемни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Чернов Дмитри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1-11-1839 г. - 02-01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Установил, что при изменении температуры сталь меняет свои свойства и проходит полиморфические превращения. Чернов вычислил точки, известные сейчас как точки Чернов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.                                               Налётов Михаи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869 г. - 30-03-193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Подводный минный заградите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аткое описание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изобретатель, создатель первого в мире подводного минного заградител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07:55Z</dcterms:created>
  <dc:creator>Андрей</dc:creator>
  <dc:description/>
  <dc:language>en-US</dc:language>
  <cp:lastModifiedBy>Iren</cp:lastModifiedBy>
  <dcterms:modified xsi:type="dcterms:W3CDTF">2020-03-25T10:51:48Z</dcterms:modified>
  <cp:revision>38</cp:revision>
  <dc:subject/>
  <dc:title>ИМИДЖ И РЕПУТАЦИЯ РОССИЙСКОГО ИНЖЕНЕНРА</dc:title>
</cp:coreProperties>
</file>